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61C6-F2A7-461F-A65D-77FD0FFD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F04B-3089-4CB5-BBC8-7B1F7947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C8C-E423-4403-8221-82480C6D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564D-E69E-4ADF-9872-4706A520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8E0-1F35-4FBF-9484-224E12B4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55C7-D1BC-4963-A03C-22C88B45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4C1-B04F-4344-B58B-78C73E18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DF37-01D7-49DA-B9C2-2C53117B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3C38-008E-4AEB-8DC9-43747F06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C1A-7D7C-429F-A8A2-A7C794B3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7C94-D797-42CC-8AAB-60DCAA96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361-56E1-46C3-9860-D23E7F34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088D-C289-4A0E-B5FE-859F2E6D0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486400" y="2362320"/>
            <a:ext cx="1990800" cy="3990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280" y="22860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ne day I was playing in lawn in front of my house. It was a sunny bright day. I was in a jolly mood. My mother was calling me in for breakfast but I didn’t want to spoil my day. I turned deaf to her repeated c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1447920"/>
            <a:ext cx="1752840" cy="1523880"/>
          </a:xfrm>
          <a:prstGeom prst="cloudCallout">
            <a:avLst>
              <a:gd name="adj1" fmla="val -47375"/>
              <a:gd name="adj2" fmla="val 59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t mother call. I won’t 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1725480" cy="2620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895480" y="3581280"/>
            <a:ext cx="1922760" cy="2590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228600"/>
            <a:ext cx="899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Mother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came outside and what I saw in her hands a plate full of porridge! What a foolish I was to ignore her calls! Now it was mother’s turn to tease me. She asked me to first take a bath and then have breakfast. She knew well how much I liked eating porrid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1828800"/>
            <a:ext cx="2819520" cy="1676520"/>
          </a:xfrm>
          <a:prstGeom prst="wedgeEllipseCallout">
            <a:avLst>
              <a:gd name="adj1" fmla="val -32490"/>
              <a:gd name="adj2" fmla="val 768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ther please let me have porridge first then I will do as you 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1828800"/>
            <a:ext cx="2743200" cy="1523880"/>
          </a:xfrm>
          <a:prstGeom prst="wedgeEllipseCallout">
            <a:avLst>
              <a:gd name="adj1" fmla="val -8388"/>
              <a:gd name="adj2" fmla="val 11135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o dear son, do as I say or you won’t have it at a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1981440" cy="2773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112160" y="2590920"/>
            <a:ext cx="1498320" cy="3267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228600"/>
            <a:ext cx="891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286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Comic Sans MS"/>
              </a:rPr>
              <a:t>Mother went inside carrying away the porridge plate. My younger sister came there skipping and mocked at me. I always teased her and she took the chance to laugh at me! Now I had only one option left before me and that was to do as mother told. I took bath and then got porridge! It was a horrible day for me when I had to give up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1981080"/>
            <a:ext cx="2438280" cy="1371600"/>
          </a:xfrm>
          <a:prstGeom prst="wedgeEllipseCallout">
            <a:avLst>
              <a:gd name="adj1" fmla="val 63995"/>
              <a:gd name="adj2" fmla="val 50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y don’t you do as mother tells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1981080"/>
            <a:ext cx="2362320" cy="1371600"/>
          </a:xfrm>
          <a:prstGeom prst="wedgeEllipseCallout">
            <a:avLst>
              <a:gd name="adj1" fmla="val 50740"/>
              <a:gd name="adj2" fmla="val 400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n’t you shut your mouth? Don’t irritate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8:01:32Z</dcterms:created>
  <dc:creator>Rahul Yadav</dc:creator>
  <dc:description/>
  <dc:language>en-US</dc:language>
  <cp:lastModifiedBy>abc</cp:lastModifiedBy>
  <dcterms:modified xsi:type="dcterms:W3CDTF">2010-10-19T18:31:24Z</dcterms:modified>
  <cp:revision>2</cp:revision>
  <dc:subject/>
  <dc:title>When I was teased!</dc:title>
</cp:coreProperties>
</file>